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FFF-91C7-4B4A-AF4D-3454EEA9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C27-5F93-447C-8B62-1BFEFB5C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F0D-B3BF-48BE-BF5C-BC00D5B0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745-57C4-4A10-81F3-60AF4E29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44F8-44DB-424A-9344-7D6890D1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742-1C89-42F3-BCF4-82466CB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63E4-A508-47CF-BB3F-1DFED5B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A6E-D9C3-4022-B2F4-41ECB877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55F-B680-47A4-B45B-80B13A4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AA88-28D7-4038-AFE5-36AD9458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EE41-C0F2-4F24-BEB5-34B8606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F3E-7383-4B46-8D08-AB64580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2A8-A9BA-455E-A2E5-6A57A19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16F6-A325-497C-BCEC-5666067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1B1-6CF8-497C-BE53-686A899E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6A29-A254-4EF1-ABCD-0CA10D20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CBD-2877-4823-B1E4-F54EC063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781-1132-4620-A7F2-A28AA79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452-F86A-46B4-BAE3-C4DEE3A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4CD-D0D8-4281-8DD4-655227C9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2B4-5FF1-40AD-A843-D49632E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2E7-8A0D-472D-9005-361EB35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038-3D9A-4151-A1DB-1709D58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0E6-36F1-4B60-B8EC-A74EA67F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029A-B956-4923-A63A-E4FAAF8EAC7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97C-1C12-468E-A9D5-98BA26A367C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mailto:lmoyer@acteonline.org" TargetMode="External"/><Relationship Id="rId3" Type="http://schemas.openxmlformats.org/officeDocument/2006/relationships/hyperlink" Target="http://www.acteonline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962000"/>
            <a:ext cx="8242200" cy="2183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ting Interactions Between Schemata and Tex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making predicitons.bmp"/>
          <p:cNvPicPr/>
          <p:nvPr/>
        </p:nvPicPr>
        <p:blipFill>
          <a:blip r:embed="rId2"/>
          <a:stretch/>
        </p:blipFill>
        <p:spPr>
          <a:xfrm>
            <a:off x="6172200" y="609480"/>
            <a:ext cx="2600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378000" y="-182520"/>
            <a:ext cx="8242200" cy="2212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tool to help students make predictions as an aid in reading comprehension of non-fiction tex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http://www.steveandcat.net/mrswalker/images/animated%20clipart/frogs/touble%20eating%20flies.gif"/>
          <p:cNvPicPr/>
          <p:nvPr/>
        </p:nvPicPr>
        <p:blipFill>
          <a:blip r:embed="rId2"/>
          <a:stretch/>
        </p:blipFill>
        <p:spPr>
          <a:xfrm>
            <a:off x="2057400" y="3352680"/>
            <a:ext cx="4343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MAKING PREDICTION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Content Placeholder 7" descr="comprehension.gif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Diagram 8" descr=""/>
          <p:cNvPicPr/>
          <p:nvPr/>
        </p:nvPicPr>
        <p:blipFill>
          <a:blip r:embed="rId3"/>
          <a:stretch/>
        </p:blipFill>
        <p:spPr>
          <a:xfrm>
            <a:off x="285840" y="2859120"/>
            <a:ext cx="39384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4" descr=""/>
          <p:cNvPicPr/>
          <p:nvPr/>
        </p:nvPicPr>
        <p:blipFill>
          <a:blip r:embed="rId1"/>
          <a:stretch/>
        </p:blipFill>
        <p:spPr>
          <a:xfrm>
            <a:off x="-6480" y="79200"/>
            <a:ext cx="3475080" cy="1494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n first initiating this strategy in your classroom use a short article or tex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ave students work in small groups as this will make the strategy less intimidating and students can brainstorm ideas togethe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dentify the amount of words that you want the students to use;  30, 20 12, etc.; The writing must use the exact amount of words, no more, no les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1" descr="C:\Documents and Settings\lmoyer\Local Settings\Temporary Internet Files\Content.IE5\UG5K779N\MC900297177[1].wmf"/>
          <p:cNvPicPr/>
          <p:nvPr/>
        </p:nvPicPr>
        <p:blipFill>
          <a:blip r:embed="rId2"/>
          <a:stretch/>
        </p:blipFill>
        <p:spPr>
          <a:xfrm>
            <a:off x="304920" y="3048120"/>
            <a:ext cx="3084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students preview or scan the text, use the template that follows and have students write a GIST ( a short writing of what they think the text is about) using “X” amount of wo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e each group write their GIST on a flip chart poster for all groups to se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variety of predic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llow with the reading of the text and then have students repeat the GIST activity and compare their predictions with the final revi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96840" y="268200"/>
            <a:ext cx="3371760" cy="127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12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-Reading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Have student preview the text to get a feel for what the material is about and then have them write a GIST based on their predictio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Using a template similar to the one on the right, have students write their predictions using a designated number of words (teacher will decide on the amount of words based on the length of the text);  NO MORE NO LES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rompts:  What do you think this article or text is about? What do you think you will be learning about today?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IST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966"/>
                </a:solidFill>
                <a:latin typeface="Book Antiqua"/>
              </a:rPr>
              <a:t>Directions:  Using 20 words, (no more/no less), predict what you think this topic is abou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b966"/>
                </a:solidFill>
                <a:latin typeface="Book Antiqua"/>
              </a:rPr>
              <a:t>Using the GIST above, reduce the number of words and condense your thoughts using only 12 words, (no more/no les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  _____  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966"/>
                </a:solidFill>
                <a:latin typeface="Book Antiqua"/>
              </a:rPr>
              <a:t>_____  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further questions please email Linda Moyer a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lmoyer@acteonline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ownload the GIST Template go 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www.acteonlin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6" descr="making predicitons.bmp"/>
          <p:cNvPicPr/>
          <p:nvPr/>
        </p:nvPicPr>
        <p:blipFill>
          <a:blip r:embed="rId4"/>
          <a:stretch/>
        </p:blipFill>
        <p:spPr>
          <a:xfrm>
            <a:off x="6697800" y="228600"/>
            <a:ext cx="192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5:13:26Z</dcterms:created>
  <dc:creator>lmoyer</dc:creator>
  <dc:description/>
  <dc:language>en-US</dc:language>
  <cp:lastModifiedBy>Jonathan Miller</cp:lastModifiedBy>
  <dcterms:modified xsi:type="dcterms:W3CDTF">2011-09-08T17:13:33Z</dcterms:modified>
  <cp:revision>31</cp:revision>
  <dc:subject/>
  <dc:title>GIST</dc:title>
</cp:coreProperties>
</file>