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C9B-C370-4C79-B387-DE99CC1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57E-84EB-4200-8C9E-EE18A8D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FFE-13E8-4CDE-9AD7-21760D63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301-5379-4C79-96C4-5CF1D53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ADD-AAE8-45E9-9BDF-7F44A1B0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295D-DA3E-45F5-A368-C547FDA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7D1A-5E84-432A-AE24-637BBF31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B71-9825-4E28-A55F-CB7C614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3D40-507D-425C-B911-0CA2A0D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788-53AD-4627-B3FA-6143B69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5A2D-7889-4BAF-A2E8-74EDAB2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577-E2B8-404A-ABA7-33724E5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6FC8-2A44-490B-905B-B7A943C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F38-D8A3-448E-86F8-968CA88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C08-46CC-4285-96AA-0554BFC6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5F6-6BBA-454F-9D84-AF43AE21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826-A242-4498-B539-0C97E882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DC1-A075-4D99-9F9B-84C989D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AB6-6C2A-4940-8072-4B14D19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D76-B71B-4A5A-BC44-F1EDF32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CDD-B4F3-4F53-A38E-97165003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326-42A3-4238-858A-BECE272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7C9-20E7-45FC-83A0-785F464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5AC-9AB2-44F5-B219-6AC1DE9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470E-D3C5-4F23-ABA8-D447B7644E4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503E-8869-4A83-A1E0-B2E7E904CE2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mailto:lmoyer@acteonline.org" TargetMode="External"/><Relationship Id="rId3" Type="http://schemas.openxmlformats.org/officeDocument/2006/relationships/hyperlink" Target="http://www.acteonline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962000"/>
            <a:ext cx="8242200" cy="2183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ting Interactions Between Schemata and Tex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making predicitons.bmp"/>
          <p:cNvPicPr/>
          <p:nvPr/>
        </p:nvPicPr>
        <p:blipFill>
          <a:blip r:embed="rId2"/>
          <a:stretch/>
        </p:blipFill>
        <p:spPr>
          <a:xfrm>
            <a:off x="6172200" y="609480"/>
            <a:ext cx="2600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378000" y="-182520"/>
            <a:ext cx="8242200" cy="2212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tool to help students make predictions as an aid in reading comprehension of non-fiction tex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http://www.steveandcat.net/mrswalker/images/animated%20clipart/frogs/touble%20eating%20flies.gif"/>
          <p:cNvPicPr/>
          <p:nvPr/>
        </p:nvPicPr>
        <p:blipFill>
          <a:blip r:embed="rId2"/>
          <a:stretch/>
        </p:blipFill>
        <p:spPr>
          <a:xfrm>
            <a:off x="2057400" y="3352680"/>
            <a:ext cx="4343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MAKING PREDICTION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Content Placeholder 7" descr="comprehension.gif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Diagram 8" descr=""/>
          <p:cNvPicPr/>
          <p:nvPr/>
        </p:nvPicPr>
        <p:blipFill>
          <a:blip r:embed="rId3"/>
          <a:stretch/>
        </p:blipFill>
        <p:spPr>
          <a:xfrm>
            <a:off x="285840" y="2859120"/>
            <a:ext cx="39384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4" descr=""/>
          <p:cNvPicPr/>
          <p:nvPr/>
        </p:nvPicPr>
        <p:blipFill>
          <a:blip r:embed="rId1"/>
          <a:stretch/>
        </p:blipFill>
        <p:spPr>
          <a:xfrm>
            <a:off x="-6480" y="79200"/>
            <a:ext cx="3475080" cy="1494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n first initiating this strategy in your classroom use a short article or tex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ave students work in small groups as this will make the strategy less intimidating and students can brainstorm ideas togethe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dentify the amount of words that you want the students to use;  30, 20 12, etc.; The writing must use the exact amount of words, no more, no les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1" descr="C:\Documents and Settings\lmoyer\Local Settings\Temporary Internet Files\Content.IE5\UG5K779N\MC900297177[1].wmf"/>
          <p:cNvPicPr/>
          <p:nvPr/>
        </p:nvPicPr>
        <p:blipFill>
          <a:blip r:embed="rId2"/>
          <a:stretch/>
        </p:blipFill>
        <p:spPr>
          <a:xfrm>
            <a:off x="304920" y="3048120"/>
            <a:ext cx="3084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students preview or scan the text, use the template that follows and have students write a GIST ( a short writing of what they think the text is about) using “X” amount of wo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each group write their GIST on a flip chart poster for all groups to se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variety of predic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llow with the reading of the text and then have students repeat the GIST activity and compare their predictions with the final revi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96840" y="268200"/>
            <a:ext cx="3371760" cy="127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12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-Reading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ve student preview the text to get a feel for what the material is about and then have them write a GIST based on their predictio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Using a template similar to the one on the right, have students write their predictions using a designated number of words (teacher will decide on the amount of words based on the length of the text);  NO MORE NO LES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rompts:  What do you think this article or text is about? What do you think you will be learning about today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IST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966"/>
                </a:solidFill>
                <a:latin typeface="Book Antiqua"/>
              </a:rPr>
              <a:t>Directions:  Using 20 words, (no more/no less), predict what you think this topic is abou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966"/>
                </a:solidFill>
                <a:latin typeface="Book Antiqua"/>
              </a:rPr>
              <a:t>Using the GIST above, reduce the number of words and condense your thoughts using only 12 words, (no more/no les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further questions please email Linda Moyer a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moyer@acteonline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ownload the GIST Template go 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www.acteonlin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6" descr="making predicitons.bmp"/>
          <p:cNvPicPr/>
          <p:nvPr/>
        </p:nvPicPr>
        <p:blipFill>
          <a:blip r:embed="rId4"/>
          <a:stretch/>
        </p:blipFill>
        <p:spPr>
          <a:xfrm>
            <a:off x="6697800" y="228600"/>
            <a:ext cx="192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5:13:26Z</dcterms:created>
  <dc:creator>lmoyer</dc:creator>
  <dc:description/>
  <dc:language>en-US</dc:language>
  <cp:lastModifiedBy>Jonathan Miller</cp:lastModifiedBy>
  <dcterms:modified xsi:type="dcterms:W3CDTF">2011-09-08T17:13:33Z</dcterms:modified>
  <cp:revision>31</cp:revision>
  <dc:subject/>
  <dc:title>GIST</dc:title>
</cp:coreProperties>
</file>