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708D-151A-49C8-BA36-2E707905C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456A-92B5-40F0-8969-039022E2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5BCE-1E3D-4033-A38E-3E39BB3CC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F851-0B3A-4495-B211-D08BC53B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8107-6459-4006-AE35-03E40D3E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8276-6110-488B-A19A-352141A4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4E17-5CCB-44AC-97B4-8AB25BB5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56DB-4137-4C54-9107-8B2AD409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F747-1B2C-4095-9F1E-5E7C2B5D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9EE6-7CBD-45A4-AADA-D31DBFE8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3C08-369D-440D-9D47-C0A6B9BD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8560-819B-482A-81F5-94079420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996B-BA1C-4752-A19E-BC745314851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Previewing The Tex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IN CTE CLASSROO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Narrow"/>
              </a:rPr>
              <a:t>A Pre-Reading Strategy For All Reading Assignme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3" descr="Preview the text.bmp"/>
          <p:cNvPicPr/>
          <p:nvPr/>
        </p:nvPicPr>
        <p:blipFill>
          <a:blip r:embed="rId1"/>
          <a:stretch/>
        </p:blipFill>
        <p:spPr>
          <a:xfrm>
            <a:off x="5867280" y="762120"/>
            <a:ext cx="16858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What is Previewing the Text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Content Placeholder 4" descr="Previewing the text comic.bmp"/>
          <p:cNvPicPr/>
          <p:nvPr/>
        </p:nvPicPr>
        <p:blipFill>
          <a:blip r:embed="rId1"/>
          <a:stretch/>
        </p:blipFill>
        <p:spPr>
          <a:xfrm>
            <a:off x="1371600" y="1219320"/>
            <a:ext cx="6400800" cy="5121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5"/>
          <p:cNvSpPr/>
          <p:nvPr/>
        </p:nvSpPr>
        <p:spPr>
          <a:xfrm>
            <a:off x="6248520" y="632448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www.peterpappas.com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What is Previewing the Text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11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tudents examine the reading material before they read it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4953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kimming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canning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Visualizing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nnecting to Prior Knowledg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ummarizing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3" descr="C:\Documents and Settings\lmoyer\Local Settings\Temporary Internet Files\Content.IE5\2WPZYCEP\MC900084348[1].wmf"/>
          <p:cNvPicPr/>
          <p:nvPr/>
        </p:nvPicPr>
        <p:blipFill>
          <a:blip r:embed="rId1"/>
          <a:stretch/>
        </p:blipFill>
        <p:spPr>
          <a:xfrm>
            <a:off x="7467480" y="304920"/>
            <a:ext cx="139716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Why Should I Use This Strategy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imulates student’s prior knowled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ids in alleviating reader fr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dds valuable information during reading for increased comprehens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hances communication and writ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4" descr="Previewing the text connecting to prior knowledge.jpg"/>
          <p:cNvPicPr/>
          <p:nvPr/>
        </p:nvPicPr>
        <p:blipFill>
          <a:blip r:embed="rId1"/>
          <a:stretch/>
        </p:blipFill>
        <p:spPr>
          <a:xfrm>
            <a:off x="6629400" y="1447920"/>
            <a:ext cx="1324080" cy="1073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Documents and Settings\lmoyer\Local Settings\Temporary Internet Files\Content.IE5\DF95KA0B\MC900060290[1].wmf"/>
          <p:cNvPicPr/>
          <p:nvPr/>
        </p:nvPicPr>
        <p:blipFill>
          <a:blip r:embed="rId2"/>
          <a:stretch/>
        </p:blipFill>
        <p:spPr>
          <a:xfrm>
            <a:off x="380880" y="2133720"/>
            <a:ext cx="1405080" cy="1447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C:\Documents and Settings\lmoyer\Local Settings\Temporary Internet Files\Content.IE5\XY3GVA9D\MC900442020[1].wmf"/>
          <p:cNvPicPr/>
          <p:nvPr/>
        </p:nvPicPr>
        <p:blipFill>
          <a:blip r:embed="rId3"/>
          <a:stretch/>
        </p:blipFill>
        <p:spPr>
          <a:xfrm>
            <a:off x="5638680" y="4114800"/>
            <a:ext cx="1841760" cy="1139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C:\Documents and Settings\lmoyer\Local Settings\Temporary Internet Files\Content.IE5\KLFDM0B5\MP900289528[1].jpg"/>
          <p:cNvPicPr/>
          <p:nvPr/>
        </p:nvPicPr>
        <p:blipFill>
          <a:blip r:embed="rId4"/>
          <a:stretch/>
        </p:blipFill>
        <p:spPr>
          <a:xfrm>
            <a:off x="914400" y="4724280"/>
            <a:ext cx="1219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Create A Template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990720"/>
          <a:ext cx="8229600" cy="5761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xt Featu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t Does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li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s in a few words what the article is abou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tit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mmarizes the article in a sentence or tw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head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es the article into parts and gives clues about what’s to com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ves information about a pictur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cabula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oduces technical languag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cs/Graph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ed information to the topic.  Do you know how to read this information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il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es hands-on tasks that will be learn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fet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s important information related to the top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stio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s a purpose for reading and identifies important points of the chapt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oduction/Summa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s the setting and the background information for the chapter; Gives a framework for prior knowledge and helps sort small details from important events or ide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Example: Small Group Activi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600200"/>
          <a:ext cx="8229600" cy="4719600"/>
        </p:xfrm>
        <a:graphic>
          <a:graphicData uri="http://schemas.openxmlformats.org/drawingml/2006/table">
            <a:tbl>
              <a:tblPr/>
              <a:tblGrid>
                <a:gridCol w="1447920"/>
                <a:gridCol w="6781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xt Fe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rite each feature below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head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cabula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cs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ph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s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odu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mma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46c0a"/>
                </a:solidFill>
                <a:latin typeface="Calibri"/>
              </a:rPr>
              <a:t>NEXT: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228600" y="1371600"/>
            <a:ext cx="350532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se a flip chart to have students record their findings and share with the grou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ke some predic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mmarize what the chapter might be abou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5" descr="C:\Documents and Settings\lmoyer\Local Settings\Temporary Internet Files\Content.IE5\Y81FI1M2\MP900427643[1].jpg"/>
          <p:cNvPicPr/>
          <p:nvPr/>
        </p:nvPicPr>
        <p:blipFill>
          <a:blip r:embed="rId1"/>
          <a:stretch/>
        </p:blipFill>
        <p:spPr>
          <a:xfrm>
            <a:off x="4114800" y="167652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Give Students A Purpose to Read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watch their comprehension soar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2" descr="C:\Documents and Settings\lmoyer\Local Settings\Temporary Internet Files\Content.IE5\R4283TEB\MP900409210[1].jpg"/>
          <p:cNvPicPr/>
          <p:nvPr/>
        </p:nvPicPr>
        <p:blipFill>
          <a:blip r:embed="rId1"/>
          <a:stretch/>
        </p:blipFill>
        <p:spPr>
          <a:xfrm>
            <a:off x="1219320" y="2133720"/>
            <a:ext cx="678168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18:42:11Z</dcterms:created>
  <dc:creator>lmoyer</dc:creator>
  <dc:description/>
  <dc:language>en-US</dc:language>
  <cp:lastModifiedBy>Jonathan Miller</cp:lastModifiedBy>
  <dcterms:modified xsi:type="dcterms:W3CDTF">2011-09-08T19:07:40Z</dcterms:modified>
  <cp:revision>9</cp:revision>
  <dc:subject/>
  <dc:title>Previewing The Text</dc:title>
</cp:coreProperties>
</file>