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5E9-EE7D-44B6-9293-42880506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498-B0F5-4AC1-BA44-26530550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BF4-35D1-48FA-A5C3-2B3AC1CD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3F9-7388-4A9E-8573-37EA524E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412-1951-4B1C-BB57-6CC22B48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06C-195B-4010-90F5-564FE36A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10E-5D0E-47A1-AA4C-521734E3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C33-A01D-4039-84A6-C4D19742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2E6-F349-4347-89A0-510B4267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49E-477E-48F9-8283-613A5411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FB8-1459-42BA-BC5D-E6BB7BB5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D36-B0F4-4215-889A-77258E2F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EEBD-9B29-43A1-A8F5-5166E081AC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Previewing The Tex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IN CTE CLASSROO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Narrow"/>
              </a:rPr>
              <a:t>A Pre-Reading Strategy For All Reading Assign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Preview the text.bmp"/>
          <p:cNvPicPr/>
          <p:nvPr/>
        </p:nvPicPr>
        <p:blipFill>
          <a:blip r:embed="rId1"/>
          <a:stretch/>
        </p:blipFill>
        <p:spPr>
          <a:xfrm>
            <a:off x="5867280" y="762120"/>
            <a:ext cx="16858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What is Previewing the Tex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Content Placeholder 4" descr="Previewing the text comic.bmp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5121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6248520" y="63244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eterpappas.com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What is Previewing the Tex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1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ents examine the reading material before they read i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953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kimm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cann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Visualiz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necting to Prior Knowled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ummariz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C:\Documents and Settings\lmoyer\Local Settings\Temporary Internet Files\Content.IE5\2WPZYCEP\MC900084348[1].wmf"/>
          <p:cNvPicPr/>
          <p:nvPr/>
        </p:nvPicPr>
        <p:blipFill>
          <a:blip r:embed="rId1"/>
          <a:stretch/>
        </p:blipFill>
        <p:spPr>
          <a:xfrm>
            <a:off x="7467480" y="304920"/>
            <a:ext cx="139716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Why Should I Use This Strateg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imulates student’s prior knowled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ids in alleviating reader fr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ds valuable information during reading for increased comprehen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hances communication and wri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Previewing the text connecting to prior knowledge.jpg"/>
          <p:cNvPicPr/>
          <p:nvPr/>
        </p:nvPicPr>
        <p:blipFill>
          <a:blip r:embed="rId1"/>
          <a:stretch/>
        </p:blipFill>
        <p:spPr>
          <a:xfrm>
            <a:off x="6629400" y="1447920"/>
            <a:ext cx="1324080" cy="1073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lmoyer\Local Settings\Temporary Internet Files\Content.IE5\DF95KA0B\MC900060290[1].wmf"/>
          <p:cNvPicPr/>
          <p:nvPr/>
        </p:nvPicPr>
        <p:blipFill>
          <a:blip r:embed="rId2"/>
          <a:stretch/>
        </p:blipFill>
        <p:spPr>
          <a:xfrm>
            <a:off x="380880" y="2133720"/>
            <a:ext cx="1405080" cy="144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lmoyer\Local Settings\Temporary Internet Files\Content.IE5\XY3GVA9D\MC900442020[1].wmf"/>
          <p:cNvPicPr/>
          <p:nvPr/>
        </p:nvPicPr>
        <p:blipFill>
          <a:blip r:embed="rId3"/>
          <a:stretch/>
        </p:blipFill>
        <p:spPr>
          <a:xfrm>
            <a:off x="5638680" y="4114800"/>
            <a:ext cx="1841760" cy="1139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Documents and Settings\lmoyer\Local Settings\Temporary Internet Files\Content.IE5\KLFDM0B5\MP900289528[1].jpg"/>
          <p:cNvPicPr/>
          <p:nvPr/>
        </p:nvPicPr>
        <p:blipFill>
          <a:blip r:embed="rId4"/>
          <a:stretch/>
        </p:blipFill>
        <p:spPr>
          <a:xfrm>
            <a:off x="914400" y="472428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Create A Template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990720"/>
          <a:ext cx="8229600" cy="576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xt Featu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l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s in a few words what the article is abo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tit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izes the article in a sentence or tw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head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es the article into parts and gives clues about what’s to 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ves information about a pictu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es technical langua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cs/Graph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ed information to the topic.  Do you know how to read this informatio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es hands-on tasks that will be learn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important information related to the top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s a purpose for reading and identifies important points of the chap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/Summa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the setting and the background information for the chapter; Gives a framework for prior knowledge and helps sort small details from important events or ide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Example: Small Group Activ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71960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xt Fe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rite each feature below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hea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cs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46c0a"/>
                </a:solidFill>
                <a:latin typeface="Calibri"/>
              </a:rPr>
              <a:t>NEXT: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228600" y="1371600"/>
            <a:ext cx="35053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e a flip chart to have students record their findings and share with the grou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ke some predi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mmarize what the chapter might be abou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5" descr="C:\Documents and Settings\lmoyer\Local Settings\Temporary Internet Files\Content.IE5\Y81FI1M2\MP900427643[1].jpg"/>
          <p:cNvPicPr/>
          <p:nvPr/>
        </p:nvPicPr>
        <p:blipFill>
          <a:blip r:embed="rId1"/>
          <a:stretch/>
        </p:blipFill>
        <p:spPr>
          <a:xfrm>
            <a:off x="4114800" y="167652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ive Students A Purpose to Read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watch their comprehension soar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C:\Documents and Settings\lmoyer\Local Settings\Temporary Internet Files\Content.IE5\R4283TEB\MP900409210[1].jpg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18:42:11Z</dcterms:created>
  <dc:creator>lmoyer</dc:creator>
  <dc:description/>
  <dc:language>en-US</dc:language>
  <cp:lastModifiedBy>Jonathan Miller</cp:lastModifiedBy>
  <dcterms:modified xsi:type="dcterms:W3CDTF">2011-09-08T19:07:40Z</dcterms:modified>
  <cp:revision>9</cp:revision>
  <dc:subject/>
  <dc:title>Previewing The Text</dc:title>
</cp:coreProperties>
</file>