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wmf" ContentType="image/x-wmf"/>
  <Override PartName="/ppt/media/image2.png" ContentType="image/png"/>
  <Override PartName="/ppt/media/image25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6.jpeg" ContentType="image/jpeg"/>
  <Override PartName="/ppt/media/image24.wmf" ContentType="image/x-wmf"/>
  <Override PartName="/ppt/media/image23.png" ContentType="image/png"/>
  <Override PartName="/ppt/media/image21.png" ContentType="image/png"/>
  <Override PartName="/ppt/media/image4.png" ContentType="image/png"/>
  <Override PartName="/ppt/media/image8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A566-3F0F-4090-B70F-BD383348E3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9248-486F-45AE-992F-779AA7E93E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05BA-88C8-44A9-954A-96BBDBA19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FBA6-5DD2-47E3-A502-379EEA65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2207-4EE5-47B5-94BC-145D24B8C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8F09-E9A1-490B-9302-C47F0C04C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26D2-3045-4E36-B2D6-EC04211E0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9815-9343-4E8B-9165-F74922AE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E2F3-8249-44DF-A866-A8B8070B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6A0B-2B55-42C4-A7DD-D8E6CA4D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2748-5B3A-4608-A782-6EDE8B8E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C79F8-6AEA-405E-B434-1B849F09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A7DB-536C-4A80-AA14-C5249DBB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5B65-D9E6-42EE-9FB1-C2C09518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4F28-5794-4E5C-B589-11B72D71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833A-B62F-442E-A9AD-87F89318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1821-64C0-488C-8C5F-42045EA7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4C85-EB43-478C-BCFC-072857580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A1D5-C9FD-4E26-9F02-228C2433C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88C14-B1D0-41E6-ADA0-3406AAC3F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E29F0-187B-4B87-8730-4DFCDEBB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ACA7E-DB95-4003-A579-004AD5B1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8E64E-C2C9-4EB7-93F4-CE7C53EA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6DCA1-F42E-486E-BC29-41C06704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208E-2C90-4FBA-B382-5B98AFBD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E16F6-C6F7-41DE-8CFF-672924E1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05401-AC73-445F-B91C-59BDE659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672F1-57CA-46D8-B18E-D3A11D67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19B52-5105-4F6B-9F6D-01B584FE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274E0-B484-4FEB-997A-4883BE02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509AA-295C-46C2-8328-803348CBD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EF948-ED88-46C0-9ABA-41F3482D9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63FC2-3B12-47D6-9FB1-54E159876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7CCDA-2163-4F65-A899-331AB7C0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482DA-037A-4CF1-87E0-47D7A266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004F-3504-41BA-8299-A37D573F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39A33-3586-4A80-8410-09B4C6C9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B83FF-928E-48C2-AF65-085D6D8A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864F8-EDA7-4D2F-918F-13401552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8483C-CE1D-4775-B7D9-5179CE18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B3E4E-F01D-4FB5-AA32-76BBE683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B24F7-890E-4D87-A7DD-96F96668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A8C1A-91C8-4C5D-8848-0D7D386B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E58DB-C696-489C-8EE9-9CD40F222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C2CF8-0FFA-449A-9DE6-16A4753CE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8BA04-45D8-48FC-820F-132BC4359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C646-16C7-4202-BCE3-D4D1206E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9E53C-E5FD-47A1-A8FB-4DCDF5F1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4EE61-3611-45DF-A358-112BE427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D2F4E-690C-499C-A652-097499B2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533C7-904F-4F35-A6F0-6F70CECA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29845-6AC4-422C-9021-3FB4A5D2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E7891-0EB0-4B9E-A698-18C4960B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A60D7-0548-4BD2-A566-E0605166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C48B4-25BA-4FFD-AE1F-CA1DC1E6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B36BE-FAB8-49EF-9A3D-36C3D8E0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54271-8715-47A0-95A4-7353DC4D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17C9-5069-4F75-BA87-9814EFB2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57304-3151-42D0-80CC-AAAB51734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5A35C-05E9-45E2-967B-5BD82C9F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73090-5228-40DF-8D74-94918181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5A658-972E-410F-B18F-74C6C02C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C2E09-7A01-4B2E-B6E2-7DABA48B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2F6EC-5F4C-4305-8BE1-D947CEEF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5C1C3-2EB8-40CD-B976-DB1DF32A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11BF5-D589-4E1D-B959-0922D0B1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BE950-D1F1-4176-B9A5-537641A7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E7E6F-B4FF-465D-9526-7686C0F8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8F28-C076-4D3F-8BEF-26BF3EC2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6B4A3-BA31-4616-AFAF-9FB5CDCE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72AB5-3F38-4FA8-8861-D62FCA5A7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62B9E-C713-4CD7-94BB-44CF7C168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AF958-5650-4D55-868A-AE432E4A8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DED29-D0AF-457A-91DB-B4083CEA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290C7-9410-4982-9C82-E1D72428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5B85C-BCE2-4CD2-9470-D9871FAC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44D92-7982-42C6-95E2-E9381B56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B47F4-8CC6-45AD-9869-16A1DE01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E5C11-ACAF-412B-84EC-8CEE27D4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C0C5-64DB-4AF0-B76B-B5B8BD16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C9820-8A7C-4B24-AC33-D6F65EDD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95DA6-4071-4742-BB8F-48C4EF4F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E8D85-7FE0-4FD1-AA53-6A79E9A9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EC6D8-CBF5-4DF7-98A9-A7D45B5A9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C0783-5976-4FFD-8901-4C3F6C897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88206-3448-4790-86E6-A0B417508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63521-1486-4FB4-848E-F90F3946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AFBC2-DA5A-49B9-B5F1-BD2677F7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0A4E8-9F48-4242-9613-E351DB40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CB1A9-D2BD-43BD-8524-EC6401D8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0F99-B602-4A96-ACBB-DBB5D7E7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CAF61-9EFB-4313-8EDC-F6CB1D4D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1FBDB-DB9F-4B5F-B2D6-CA71922B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AF1C4-B2FD-472D-AF69-74ED56ED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5EF64-7188-473B-94BF-BACD3E3B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6AE39-55BC-4884-A456-A04E8502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BAB59-78C1-4B96-ABB7-90931A7F6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51E35-B7B7-43A8-B83C-732BAF3B9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EF9C-4973-4290-BDB1-48D15CF010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0FFB-5FCF-4A21-8D3C-DC73F9AD4C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4434-B23D-4600-902C-E17955428D6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AF4E-50ED-4022-8290-64EABFC900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8949-FC66-42AD-BCD1-78EF2A223F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6002-64AB-46C6-8D85-A5B03A6D1E6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3B34-8EF3-4BAD-B45E-AE290889FE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9CDA-0542-4340-AC9F-4BFBC5EF90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03360" y="493560"/>
            <a:ext cx="7785000" cy="19512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09480" y="5257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FOR USE IN CAREEER AND TECHNICAL EDUC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Picture 4" descr="Word Walls 020.jpg"/>
          <p:cNvPicPr/>
          <p:nvPr/>
        </p:nvPicPr>
        <p:blipFill>
          <a:blip r:embed="rId2"/>
          <a:srcRect l="0" t="12803" r="0" b="10394"/>
          <a:stretch/>
        </p:blipFill>
        <p:spPr>
          <a:xfrm>
            <a:off x="1600200" y="1600200"/>
            <a:ext cx="594360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3" descr=""/>
          <p:cNvPicPr/>
          <p:nvPr/>
        </p:nvPicPr>
        <p:blipFill>
          <a:blip r:embed="rId1"/>
          <a:stretch/>
        </p:blipFill>
        <p:spPr>
          <a:xfrm>
            <a:off x="-26208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E:\School Year 2010 - 2011\BAVTS\Community Service SkillsUSA\Big Inch Notebook\big inch.jpg"/>
          <p:cNvPicPr/>
          <p:nvPr/>
        </p:nvPicPr>
        <p:blipFill>
          <a:blip r:embed="rId2"/>
          <a:stretch/>
        </p:blipFill>
        <p:spPr>
          <a:xfrm>
            <a:off x="1219320" y="1752480"/>
            <a:ext cx="667692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Play games!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Have Fun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644720" y="1523520"/>
            <a:ext cx="4041720" cy="38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ord of the Da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lay Passwor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rayer Model Flashcard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Word Splash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Picture 2" descr="C:\Documents and Settings\lmoyer\Local Settings\Temporary Internet Files\Content.IE5\MHY2S5HM\MC900022408[1].wmf"/>
          <p:cNvPicPr/>
          <p:nvPr/>
        </p:nvPicPr>
        <p:blipFill>
          <a:blip r:embed="rId2"/>
          <a:stretch/>
        </p:blipFill>
        <p:spPr>
          <a:xfrm>
            <a:off x="838080" y="1623960"/>
            <a:ext cx="332424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3" descr=""/>
          <p:cNvPicPr/>
          <p:nvPr/>
        </p:nvPicPr>
        <p:blipFill>
          <a:blip r:embed="rId1"/>
          <a:stretch/>
        </p:blipFill>
        <p:spPr>
          <a:xfrm>
            <a:off x="-262080" y="225360"/>
            <a:ext cx="8498160" cy="115272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4"/>
          <p:cNvSpPr/>
          <p:nvPr/>
        </p:nvSpPr>
        <p:spPr>
          <a:xfrm>
            <a:off x="380880" y="3733920"/>
            <a:ext cx="7925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seful Links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http://curriculum.org/storage/108/1278503618wordwalls.pdf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http://teachers.net/gazette/OCT02/wordwall.html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http://forpd.ucf.edu/strategies/stratwordwalls.html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http://www.curriculum.org/tcf/teachers/projects/wordwalls.shtml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http://www.edhelper.com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http://www.maine.gov/education/it/promise/documents/wordwall.pdf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TextBox 5"/>
          <p:cNvSpPr/>
          <p:nvPr/>
        </p:nvSpPr>
        <p:spPr>
          <a:xfrm>
            <a:off x="457200" y="1295280"/>
            <a:ext cx="5486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ontact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Linda Moye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Practitioner-In-Residenc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CT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1410 Kings St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lexandria, VA  22314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lmoyer@acteonline.or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272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Really?  In my career area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Hmm… How do I start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Build or connect to prior knowledge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Provide relative information for better  comprehension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Repetitiveness of high frequency words that students will be expected to use throughout the course of study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Highlights vocabulary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imulates conversation in the classroom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Conversational aids in discussion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Visual scaffolds that help students take control of literacy skills and strategie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osters reading and writing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Picture 3" descr="C:\Documents and Settings\lmoyer\Local Settings\Temporary Internet Files\Content.IE5\2WPZYCEP\MC900078622[1].wmf"/>
          <p:cNvPicPr/>
          <p:nvPr/>
        </p:nvPicPr>
        <p:blipFill>
          <a:blip r:embed="rId2"/>
          <a:stretch/>
        </p:blipFill>
        <p:spPr>
          <a:xfrm>
            <a:off x="1560600" y="1444680"/>
            <a:ext cx="183348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272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Use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lor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e creative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Content Placeholder 8" descr="how%20to[3].gif"/>
          <p:cNvPicPr/>
          <p:nvPr/>
        </p:nvPicPr>
        <p:blipFill>
          <a:blip r:embed="rId2"/>
          <a:stretch/>
        </p:blipFill>
        <p:spPr>
          <a:xfrm>
            <a:off x="534960" y="1444680"/>
            <a:ext cx="3884760" cy="394164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Find a location that is visible at all times and use that same area for every word wall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Words should be useful to students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Start with 5 to 7 words and add additional words slowly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Select high frequency words that you expect students to use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Do not over crowd the words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You may want to remove or change words as you progress through the units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Allow students to be creative and develop the word wall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Title 3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Make words attractive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Content Placeholder 8" descr="common characteristics.bmp"/>
          <p:cNvPicPr/>
          <p:nvPr/>
        </p:nvPicPr>
        <p:blipFill>
          <a:blip r:embed="rId2"/>
          <a:stretch/>
        </p:blipFill>
        <p:spPr>
          <a:xfrm>
            <a:off x="890640" y="182880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ll are collections of words that are appropriate for your CTE content are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ords are selected for specific instructional purpos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Make them practical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Title 3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Use pictures!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Make them hands-on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Content Placeholder 8" descr="key_points.gif"/>
          <p:cNvPicPr/>
          <p:nvPr/>
        </p:nvPicPr>
        <p:blipFill>
          <a:blip r:embed="rId2"/>
          <a:stretch/>
        </p:blipFill>
        <p:spPr>
          <a:xfrm>
            <a:off x="304920" y="2057400"/>
            <a:ext cx="3983040" cy="30481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se words daily to reinforce new learning and reiterate concep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reate an new word wall 2 weeks prior to the start of a new uni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llections of words should be cumulativ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3" descr=""/>
          <p:cNvPicPr/>
          <p:nvPr/>
        </p:nvPicPr>
        <p:blipFill>
          <a:blip r:embed="rId1"/>
          <a:stretch/>
        </p:blipFill>
        <p:spPr>
          <a:xfrm>
            <a:off x="-26208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Word Walls 015.jpg"/>
          <p:cNvPicPr/>
          <p:nvPr/>
        </p:nvPicPr>
        <p:blipFill>
          <a:blip r:embed="rId2"/>
          <a:stretch/>
        </p:blipFill>
        <p:spPr>
          <a:xfrm>
            <a:off x="2743200" y="1371600"/>
            <a:ext cx="38941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3" descr=""/>
          <p:cNvPicPr/>
          <p:nvPr/>
        </p:nvPicPr>
        <p:blipFill>
          <a:blip r:embed="rId1"/>
          <a:stretch/>
        </p:blipFill>
        <p:spPr>
          <a:xfrm>
            <a:off x="-26208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4" descr="Word Walls 018.jpg"/>
          <p:cNvPicPr/>
          <p:nvPr/>
        </p:nvPicPr>
        <p:blipFill>
          <a:blip r:embed="rId2"/>
          <a:srcRect l="15865" t="13333" r="9832" b="22222"/>
          <a:stretch/>
        </p:blipFill>
        <p:spPr>
          <a:xfrm>
            <a:off x="1600200" y="1492200"/>
            <a:ext cx="594360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le 3" descr=""/>
          <p:cNvPicPr/>
          <p:nvPr/>
        </p:nvPicPr>
        <p:blipFill>
          <a:blip r:embed="rId1"/>
          <a:stretch/>
        </p:blipFill>
        <p:spPr>
          <a:xfrm>
            <a:off x="-26208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Word Walls 016.jpg"/>
          <p:cNvPicPr/>
          <p:nvPr/>
        </p:nvPicPr>
        <p:blipFill>
          <a:blip r:embed="rId2"/>
          <a:stretch/>
        </p:blipFill>
        <p:spPr>
          <a:xfrm>
            <a:off x="1600200" y="1676520"/>
            <a:ext cx="59436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3" descr=""/>
          <p:cNvPicPr/>
          <p:nvPr/>
        </p:nvPicPr>
        <p:blipFill>
          <a:blip r:embed="rId1"/>
          <a:stretch/>
        </p:blipFill>
        <p:spPr>
          <a:xfrm>
            <a:off x="-26208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"/>
          <p:cNvPicPr/>
          <p:nvPr/>
        </p:nvPicPr>
        <p:blipFill>
          <a:blip r:embed="rId2"/>
          <a:stretch/>
        </p:blipFill>
        <p:spPr>
          <a:xfrm>
            <a:off x="1600200" y="1752480"/>
            <a:ext cx="557208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3:05:04Z</dcterms:created>
  <dc:creator>lmoyer</dc:creator>
  <dc:description/>
  <dc:language>en-US</dc:language>
  <cp:lastModifiedBy>Jonathan Miller</cp:lastModifiedBy>
  <dcterms:modified xsi:type="dcterms:W3CDTF">2011-09-08T18:55:02Z</dcterms:modified>
  <cp:revision>16</cp:revision>
  <dc:subject/>
  <dc:title>WORD WALLS  </dc:title>
</cp:coreProperties>
</file>