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24.wmf" ContentType="image/x-wmf"/>
  <Override PartName="/ppt/media/image23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CD4A-2FB4-4345-8DB8-528B7208C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2329-FE49-46C0-9D85-872317724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B14-9026-40CB-AAC8-051E1162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73F-51DF-45E7-8D1A-B289190B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7ED-BAF0-44F3-9ECB-42912B13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AB7-88D7-43DC-877E-9A13E840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682B-31BD-426B-93AC-6BECAC96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9684-B772-4309-9191-7BDF9125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6082-D0DB-4757-94B7-8EC11861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779F-8A90-4571-BCB6-843955C1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9B21-0492-44E0-9B91-24796FC1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EC7E-3AF0-441B-B226-D63AF0DF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8CE1-EE25-47EA-999A-523513C3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A0A-3D1E-46C8-A2F5-36F71782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CC09-C878-453D-9BC1-8A57FA9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A65A-5305-464C-A1F1-AA9AD798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3352-A15E-4CB4-89E6-FF66B3B9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B9AD-7626-4D09-97F9-B51C0186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6082-78AE-4D82-B3CF-6C7537C0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7984-25D4-4442-B3F7-20B84B12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543C-D7EF-44E2-A42D-9CB5830A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1C44-DD53-4A8B-88D3-C6DDD3F2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5E3B8-5553-4A0F-B0A4-BE9B40C6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E315-B1BF-401C-9EDF-712CD5EE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9DE-46A5-486C-AE77-D387C58F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4E19C-B7DC-41CA-AA43-D2F581F2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5DFBB-8669-4BA4-9C5F-1225CD1C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5C1F-1F16-4DEE-8405-982B8342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A35A3-E94C-4DFB-9BEA-723AD1B6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BC8B3-3E17-4A7E-878A-8F6A22DB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7DD6-B4BB-4784-920B-DAF69C93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96EB-7759-48EC-84AD-A2C8069C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DC158-C74E-4AA4-A8D7-C9C3F1B5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A743A-30FE-4A43-8F3C-9EA4FF9A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511A1-290E-4F90-AC87-4525A74E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F43-3156-4E1F-90A2-920B50C0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9493-B7A6-416F-B843-9289EA40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F690F-7714-4CD1-8628-0AF133BD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C8F28-BA82-4585-A677-BDE7FAC5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A0FF8-77DE-43FB-82CC-C2756D47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5F63D-93F2-4F05-A359-064A1050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16CC-A4A0-421E-83E7-F83F8DE1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6D11-A108-4B31-9B0D-D49181F8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AB148-3FC5-4A5D-8307-EA559069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ED3B8-5AA4-4768-BF7B-29C5F639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6605C-DF9F-4236-87BD-04FB6AF4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7A9-0ED8-481C-95A3-BA48D299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B39A3-1195-40C5-9BD7-8458E3DF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E5EE8-804F-4E20-B7A7-02DBC84E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EF14D-B6D9-4853-863F-0DED1718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A20AC-B51B-43D0-9206-A6735CA6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091FC-824E-4A2C-A22E-9E76896D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827A9-57CE-4E29-AABA-94D01A34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3A784-EEB4-4BE6-BAF2-4D4CAE1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7331F-4DF1-40C5-8DF1-DBDD1FB2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FD298-B14C-44EA-9D62-BBE81A6A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6317C-BD28-43EA-BAF9-73CC1977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653-7FAD-4D54-8D23-8C6C2789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E8E2F-FFAA-4B1E-B37A-C980C0B0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58F02-7773-4173-A5E9-2DD0AF88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D8B6D-7E09-4E3C-B138-F697BA20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A6D8A-337F-4C7B-B260-6AC1FB62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51796-6D5C-41D2-A374-40C83DB1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EEE7C-FB19-4312-B6FD-77552ACA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5B3A9-9F44-4105-850A-8183F477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77B29-99C0-4FD7-A0E4-EFD0E77D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FBABF-2ED2-4295-9552-4BE8F23C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F7E22-446F-429D-B4BC-EB46DC8B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375-22A9-47FF-85F9-4C8FC450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EE7A0-2A63-4FB1-A43F-61E5DBD7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D4F25-1B97-4A45-B1E6-0ED37D4A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71848-3937-4578-A4DB-D1DAD39C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B0023-952F-4964-A2F2-BEDAEE7A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CCB61-3CCD-48B9-A685-72DA6993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B1544-5F72-42F1-B4BF-4597C60E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ACD91-752F-4528-B19D-21B98130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4D7F3-C29E-4AD4-B740-633D6BB4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D0319-3BA3-434A-92D9-1FA70D87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BF148-1B8C-41C4-81C9-16630A74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4D7-D3B1-44E5-BC6F-0CCCBF0C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E9F0D-1524-4283-8F49-4E5B9FC8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3A4EA-E6A4-4BAE-9C05-BF4817B7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30700-AD81-4B91-90B1-0DCD1710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E0A68-F972-47D6-BA3D-DE5408A7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0E608-958A-4885-928F-FD978F90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F76EB-7845-4F66-97A1-694EFC52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B6FD8-EA4E-46AE-935A-D0F65652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A4D02-0482-4DA2-B080-647E1D31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63335-C90A-4A7E-9EBD-0BF137E8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81706-1B04-4424-81BF-49AF276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A49-601A-4BA7-A8A2-CFD7AE20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A2E10-940F-456E-BB02-34F435A0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E01A3-CA0C-42DC-849E-5EDC982D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9FC12-A9C7-4F66-A728-2D64630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AE99E-9E6C-44FD-B3B3-13390019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7BE08-10ED-489D-87D6-A965646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0C6E3-5CED-43E9-95CD-64C59264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51B75-A33F-41A2-B43F-9266DCE2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DA41-9F58-4899-ACD5-06E96C37A1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CB2F-AB98-4E89-B4DD-841BA5A5AE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0B1A-7AA7-4FF1-9123-ADB8A546E4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2F07-F960-4C13-A1BF-3F07E618BB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E3BD-3C28-4519-BCA3-92118EFAA8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2DEC-24B3-4EBB-981C-2DF1832541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08D4-321F-49DC-A573-EB562D5DA8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FF96-1478-4707-B995-787D0C8E7F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03360" y="493560"/>
            <a:ext cx="7785000" cy="19512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09480" y="5257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FOR USE IN CAREEER AND TECHNICAL EDUC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4" descr="Word Walls 020.jpg"/>
          <p:cNvPicPr/>
          <p:nvPr/>
        </p:nvPicPr>
        <p:blipFill>
          <a:blip r:embed="rId2"/>
          <a:srcRect l="0" t="12803" r="0" b="10394"/>
          <a:stretch/>
        </p:blipFill>
        <p:spPr>
          <a:xfrm>
            <a:off x="1600200" y="1600200"/>
            <a:ext cx="59436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3" descr=""/>
          <p:cNvPicPr/>
          <p:nvPr/>
        </p:nvPicPr>
        <p:blipFill>
          <a:blip r:embed="rId1"/>
          <a:stretch/>
        </p:blipFill>
        <p:spPr>
          <a:xfrm>
            <a:off x="-26208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E:\School Year 2010 - 2011\BAVTS\Community Service SkillsUSA\Big Inch Notebook\big inch.jpg"/>
          <p:cNvPicPr/>
          <p:nvPr/>
        </p:nvPicPr>
        <p:blipFill>
          <a:blip r:embed="rId2"/>
          <a:stretch/>
        </p:blipFill>
        <p:spPr>
          <a:xfrm>
            <a:off x="1219320" y="1752480"/>
            <a:ext cx="66769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lay games!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Have Fun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44720" y="1523520"/>
            <a:ext cx="404172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ord of the Da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lay Passwor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rayer Model Flashcard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ord Splas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Picture 2" descr="C:\Documents and Settings\lmoyer\Local Settings\Temporary Internet Files\Content.IE5\MHY2S5HM\MC900022408[1].wmf"/>
          <p:cNvPicPr/>
          <p:nvPr/>
        </p:nvPicPr>
        <p:blipFill>
          <a:blip r:embed="rId2"/>
          <a:stretch/>
        </p:blipFill>
        <p:spPr>
          <a:xfrm>
            <a:off x="838080" y="1623960"/>
            <a:ext cx="33242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3" descr=""/>
          <p:cNvPicPr/>
          <p:nvPr/>
        </p:nvPicPr>
        <p:blipFill>
          <a:blip r:embed="rId1"/>
          <a:stretch/>
        </p:blipFill>
        <p:spPr>
          <a:xfrm>
            <a:off x="-262080" y="22536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4"/>
          <p:cNvSpPr/>
          <p:nvPr/>
        </p:nvSpPr>
        <p:spPr>
          <a:xfrm>
            <a:off x="380880" y="373392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ful Links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ttp://curriculum.org/storage/108/1278503618wordwalls.pdf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ttp://teachers.net/gazette/OCT02/wordwall.html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ttp://forpd.ucf.edu/strategies/stratwordwalls.html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ttp://www.curriculum.org/tcf/teachers/projects/wordwalls.shtml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ttp://www.edhelper.com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ttp://www.maine.gov/education/it/promise/documents/wordwall.pdf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TextBox 5"/>
          <p:cNvSpPr/>
          <p:nvPr/>
        </p:nvSpPr>
        <p:spPr>
          <a:xfrm>
            <a:off x="457200" y="1295280"/>
            <a:ext cx="5486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ntact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inda Moy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actitioner-In-Reside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C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410 Kings S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lexandria, VA  2231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moyer@acteonline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Really?  In my career are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Hmm… How do I star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Build or connect to prior knowledg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Provide relative information for better  comprehens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Repetitiveness of high frequency words that students will be expected to use throughout the course of study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ighlights vocabulary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imulates conversation in the classroom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onversational aids in discussion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isual scaffolds that help students take control of literacy skills and strategi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osters reading and writ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3" descr="C:\Documents and Settings\lmoyer\Local Settings\Temporary Internet Files\Content.IE5\2WPZYCEP\MC900078622[1].wmf"/>
          <p:cNvPicPr/>
          <p:nvPr/>
        </p:nvPicPr>
        <p:blipFill>
          <a:blip r:embed="rId2"/>
          <a:stretch/>
        </p:blipFill>
        <p:spPr>
          <a:xfrm>
            <a:off x="1560600" y="1444680"/>
            <a:ext cx="18334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Us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lo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 creative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Content Placeholder 8" descr="how%20to[3].gif"/>
          <p:cNvPicPr/>
          <p:nvPr/>
        </p:nvPicPr>
        <p:blipFill>
          <a:blip r:embed="rId2"/>
          <a:stretch/>
        </p:blipFill>
        <p:spPr>
          <a:xfrm>
            <a:off x="534960" y="1444680"/>
            <a:ext cx="3884760" cy="3941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ind a location that is visible at all times and use that same area for every word wall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Words should be useful to student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Start with 5 to 7 words and add additional words slowly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Select high frequency words that you expect students to use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Do not over crowd the word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You may want to remove or change words as you progress through the unit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Allow students to be creative and develop the word wall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Make words attractive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Content Placeholder 8" descr="common characteristics.bmp"/>
          <p:cNvPicPr/>
          <p:nvPr/>
        </p:nvPicPr>
        <p:blipFill>
          <a:blip r:embed="rId2"/>
          <a:stretch/>
        </p:blipFill>
        <p:spPr>
          <a:xfrm>
            <a:off x="890640" y="18288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 are collections of words that are appropriate for your CTE content are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ords are selected for specific instructional purpo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Make them practical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3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Use pictures!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Make them hands-on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Content Placeholder 8" descr="key_points.gif"/>
          <p:cNvPicPr/>
          <p:nvPr/>
        </p:nvPicPr>
        <p:blipFill>
          <a:blip r:embed="rId2"/>
          <a:stretch/>
        </p:blipFill>
        <p:spPr>
          <a:xfrm>
            <a:off x="304920" y="2057400"/>
            <a:ext cx="3983040" cy="3048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words daily to reinforce new learning and reiterate concep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 an new word wall 2 weeks prior to the start of a new uni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llections of words should be cumulativ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3" descr=""/>
          <p:cNvPicPr/>
          <p:nvPr/>
        </p:nvPicPr>
        <p:blipFill>
          <a:blip r:embed="rId1"/>
          <a:stretch/>
        </p:blipFill>
        <p:spPr>
          <a:xfrm>
            <a:off x="-26208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Word Walls 015.jpg"/>
          <p:cNvPicPr/>
          <p:nvPr/>
        </p:nvPicPr>
        <p:blipFill>
          <a:blip r:embed="rId2"/>
          <a:stretch/>
        </p:blipFill>
        <p:spPr>
          <a:xfrm>
            <a:off x="2743200" y="1371600"/>
            <a:ext cx="3894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3" descr=""/>
          <p:cNvPicPr/>
          <p:nvPr/>
        </p:nvPicPr>
        <p:blipFill>
          <a:blip r:embed="rId1"/>
          <a:stretch/>
        </p:blipFill>
        <p:spPr>
          <a:xfrm>
            <a:off x="-26208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Word Walls 018.jpg"/>
          <p:cNvPicPr/>
          <p:nvPr/>
        </p:nvPicPr>
        <p:blipFill>
          <a:blip r:embed="rId2"/>
          <a:srcRect l="15865" t="13333" r="9832" b="22222"/>
          <a:stretch/>
        </p:blipFill>
        <p:spPr>
          <a:xfrm>
            <a:off x="1600200" y="1492200"/>
            <a:ext cx="59436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3" descr=""/>
          <p:cNvPicPr/>
          <p:nvPr/>
        </p:nvPicPr>
        <p:blipFill>
          <a:blip r:embed="rId1"/>
          <a:stretch/>
        </p:blipFill>
        <p:spPr>
          <a:xfrm>
            <a:off x="-26208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Word Walls 016.jpg"/>
          <p:cNvPicPr/>
          <p:nvPr/>
        </p:nvPicPr>
        <p:blipFill>
          <a:blip r:embed="rId2"/>
          <a:stretch/>
        </p:blipFill>
        <p:spPr>
          <a:xfrm>
            <a:off x="1600200" y="1676520"/>
            <a:ext cx="5943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3" descr=""/>
          <p:cNvPicPr/>
          <p:nvPr/>
        </p:nvPicPr>
        <p:blipFill>
          <a:blip r:embed="rId1"/>
          <a:stretch/>
        </p:blipFill>
        <p:spPr>
          <a:xfrm>
            <a:off x="-26208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57208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3:05:04Z</dcterms:created>
  <dc:creator>lmoyer</dc:creator>
  <dc:description/>
  <dc:language>en-US</dc:language>
  <cp:lastModifiedBy>Jonathan Miller</cp:lastModifiedBy>
  <dcterms:modified xsi:type="dcterms:W3CDTF">2011-09-08T18:55:02Z</dcterms:modified>
  <cp:revision>16</cp:revision>
  <dc:subject/>
  <dc:title>WORD WALLS  </dc:title>
</cp:coreProperties>
</file>