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0BE-576C-4D36-B6EF-482E40FC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16D-00A2-461A-A499-12D4CD7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17F-1871-4EE6-BE8B-88737483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99B-2017-45D0-866E-43FE8148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F56-A828-45C6-94DF-E49D96F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9E4-9A0E-47AF-95AE-AA2569FF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C5E-0687-45E7-A941-5D354FC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497-F726-414A-9754-072E698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966-E8CE-4F5E-9F93-DE90CAB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531-2B6F-4A0A-AB3F-4051706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73B-9D7D-4994-A1C0-34F9251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E8B-915B-4395-8548-7B698D6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4CF-802D-4574-AD60-362E1A9765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lmoyer</cp:lastModifiedBy>
  <dcterms:modified xsi:type="dcterms:W3CDTF">2011-06-21T19:38:34Z</dcterms:modified>
  <cp:revision>20</cp:revision>
  <dc:subject/>
  <dc:title>Password</dc:title>
</cp:coreProperties>
</file>