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BA0-A132-4697-A73E-6F081CD2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A5F-AC22-4E58-AAC7-485900FC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C3E-9B05-427D-878E-38991BFE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BD8-D04F-47B5-84C1-FC504A2B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3EC-A552-4999-A246-C90BB6F7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3C3-E25F-4372-837A-E738FD7D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6EC-1995-4151-8E20-FE1E8269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B84-6E0F-45D9-BFA4-D83A615F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0ED-4C43-4D9B-AA4E-1F45D904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DA4-08B1-45F4-A330-4427B124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68B-1AB2-4FCF-B7C3-92B48211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14B-2AA8-4D86-B943-7830B18B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2225-3AD6-40B5-87E6-89806D0BB3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-2514600" y="137160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21453" y="2368"/>
                </a:moveTo>
                <a:cubicBezTo>
                  <a:pt x="-9409" y="7280"/>
                  <a:pt x="-1536" y="18993"/>
                  <a:pt x="-1536" y="32000"/>
                </a:cubicBezTo>
                <a:cubicBezTo>
                  <a:pt x="-1536" y="-20530"/>
                  <a:pt x="-9409" y="-8817"/>
                  <a:pt x="-21453" y="-3905"/>
                </a:cubicBezTo>
                <a:cubicBezTo>
                  <a:pt x="-21454" y="-3905"/>
                  <a:pt x="-21454" y="-3905"/>
                  <a:pt x="-21454" y="-3905"/>
                </a:cubicBezTo>
                <a:lnTo>
                  <a:pt x="-21453" y="-3904"/>
                </a:lnTo>
                <a:lnTo>
                  <a:pt x="-21453" y="2368"/>
                </a:lnTo>
                <a:lnTo>
                  <a:pt x="-21454" y="2368"/>
                </a:lnTo>
                <a:cubicBezTo>
                  <a:pt x="-21454" y="2368"/>
                  <a:pt x="-21454" y="2368"/>
                  <a:pt x="-21453" y="236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222720" y="304920"/>
            <a:ext cx="403884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4542" y="6246"/>
                </a:moveTo>
                <a:cubicBezTo>
                  <a:pt x="-6364" y="12279"/>
                  <a:pt x="-1536" y="21837"/>
                  <a:pt x="-1536" y="32000"/>
                </a:cubicBezTo>
                <a:cubicBezTo>
                  <a:pt x="-1536" y="-23374"/>
                  <a:pt x="-6364" y="-13816"/>
                  <a:pt x="-14542" y="-7783"/>
                </a:cubicBezTo>
                <a:cubicBezTo>
                  <a:pt x="-14543" y="-7783"/>
                  <a:pt x="-14543" y="-7783"/>
                  <a:pt x="-14543" y="-7783"/>
                </a:cubicBezTo>
                <a:lnTo>
                  <a:pt x="-14542" y="-7782"/>
                </a:lnTo>
                <a:lnTo>
                  <a:pt x="-14542" y="6246"/>
                </a:lnTo>
                <a:lnTo>
                  <a:pt x="-14543" y="6246"/>
                </a:lnTo>
                <a:cubicBezTo>
                  <a:pt x="-14543" y="6246"/>
                  <a:pt x="-14543" y="6246"/>
                  <a:pt x="-14542" y="6246"/>
                </a:cubicBez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6" descr="shh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assword1"/>
          <p:cNvPicPr/>
          <p:nvPr/>
        </p:nvPicPr>
        <p:blipFill>
          <a:blip r:embed="rId2"/>
          <a:stretch/>
        </p:blipFill>
        <p:spPr>
          <a:xfrm>
            <a:off x="1447920" y="1905120"/>
            <a:ext cx="598176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2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1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3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60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2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79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81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9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0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 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 a vocabulary word on each of the following 10 slides in the subtitle textbox.  When complete, run the show by pressing F5 on the key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Picture 4" descr="password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5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1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7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9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6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5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4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3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lmoyer</cp:lastModifiedBy>
  <dcterms:modified xsi:type="dcterms:W3CDTF">2011-06-21T19:38:34Z</dcterms:modified>
  <cp:revision>20</cp:revision>
  <dc:subject/>
  <dc:title>Password</dc:title>
</cp:coreProperties>
</file>